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09920" y="3137040"/>
            <a:ext cx="524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19112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54108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, 2007, 2004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99880" cy="68738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494400"/>
            <a:ext cx="93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3.1 - </a:t>
            </a:r>
            <a:fld id="{6152F721-42BB-4AC4-A73B-C5D36F0AF160}" type="slidenum"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807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509"/>
                </a:solidFill>
                <a:latin typeface="Arial"/>
              </a:rPr>
              <a:t>Lecture Sli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24320" y="1739880"/>
            <a:ext cx="472428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509"/>
                </a:solidFill>
                <a:latin typeface="Arial"/>
              </a:rPr>
              <a:t>Elementary Statistic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venth Edi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Triola Statistics Serie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Mario F. Tri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00200" y="6172200"/>
            <a:ext cx="11430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4840" y="3618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20840" y="276120"/>
            <a:ext cx="6477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sure of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05120"/>
            <a:ext cx="708660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easure of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value at the center or middle of a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4840" y="3618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0840" y="276120"/>
            <a:ext cx="6477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Arithmetic M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05120"/>
            <a:ext cx="7797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520560">
              <a:lnSpc>
                <a:spcPct val="90000"/>
              </a:lnSpc>
              <a:spcBef>
                <a:spcPts val="225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rithmetic Mean (Mea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measure of center obtained by adding the values and dividing the total by the number of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most people call 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79000"/>
            <a:ext cx="7162560" cy="5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ta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9200" y="1561680"/>
            <a:ext cx="8138880" cy="466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0">
              <a:lnSpc>
                <a:spcPct val="95000"/>
              </a:lnSpc>
              <a:spcBef>
                <a:spcPts val="3988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note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um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of a set of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95000"/>
              </a:lnSpc>
              <a:spcBef>
                <a:spcPts val="1576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variable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usually used to represent the individual data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95000"/>
              </a:lnSpc>
              <a:spcBef>
                <a:spcPts val="1576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epresent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umber of data values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a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samp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95000"/>
              </a:lnSpc>
              <a:spcBef>
                <a:spcPts val="1576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epresent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umber of data values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a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pop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54920" y="258840"/>
            <a:ext cx="2237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61440" y="3424320"/>
            <a:ext cx="8782200" cy="86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µ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s pronounced ‘mu’ and denotes th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ean of all values 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in a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pop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701160" y="1655640"/>
            <a:ext cx="2687040" cy="1427040"/>
            <a:chOff x="3701160" y="1655640"/>
            <a:chExt cx="2687040" cy="1427040"/>
          </a:xfrm>
        </p:grpSpPr>
        <p:sp>
          <p:nvSpPr>
            <p:cNvPr id="99" name=""/>
            <p:cNvSpPr/>
            <p:nvPr/>
          </p:nvSpPr>
          <p:spPr>
            <a:xfrm>
              <a:off x="3701160" y="2023920"/>
              <a:ext cx="10609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22840" y="2190600"/>
              <a:ext cx="2984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44880" y="2397240"/>
              <a:ext cx="154332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56080" y="2390760"/>
              <a:ext cx="49248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42600" y="1655640"/>
              <a:ext cx="9327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90640" y="1228680"/>
            <a:ext cx="802944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s pronounced ‘x-bar’ and denotes the mean of a set o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3720" y="1033560"/>
            <a:ext cx="614160" cy="691920"/>
            <a:chOff x="513720" y="1033560"/>
            <a:chExt cx="614160" cy="691920"/>
          </a:xfrm>
        </p:grpSpPr>
        <p:sp>
          <p:nvSpPr>
            <p:cNvPr id="106" name=""/>
            <p:cNvSpPr/>
            <p:nvPr/>
          </p:nvSpPr>
          <p:spPr>
            <a:xfrm>
              <a:off x="513720" y="1033560"/>
              <a:ext cx="614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200" y="1330200"/>
              <a:ext cx="2048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698280" y="4290840"/>
            <a:ext cx="2518200" cy="1547640"/>
            <a:chOff x="3698280" y="4290840"/>
            <a:chExt cx="2518200" cy="1547640"/>
          </a:xfrm>
        </p:grpSpPr>
        <p:sp>
          <p:nvSpPr>
            <p:cNvPr id="109" name=""/>
            <p:cNvSpPr/>
            <p:nvPr/>
          </p:nvSpPr>
          <p:spPr>
            <a:xfrm>
              <a:off x="4870440" y="5076720"/>
              <a:ext cx="13460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49520" y="5146560"/>
              <a:ext cx="5853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8280" y="4719240"/>
              <a:ext cx="11019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µ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01120" y="4290840"/>
              <a:ext cx="9327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1053720"/>
            <a:ext cx="8610480" cy="32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110000"/>
              </a:lnSpc>
              <a:spcBef>
                <a:spcPts val="28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dvantages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s relatively reliable, means of samples drawn from the same population don’t vary as much as other measures of center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akes every data value into acc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440" y="422280"/>
            <a:ext cx="147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1040" y="4381560"/>
            <a:ext cx="861084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514080" indent="-514080">
              <a:lnSpc>
                <a:spcPct val="110000"/>
              </a:lnSpc>
              <a:spcBef>
                <a:spcPts val="320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advantage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sensitive to every data value, one extreme value can affect it dramatically; is not a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resistant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measure of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07920" y="264960"/>
            <a:ext cx="1927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193760"/>
            <a:ext cx="8610480" cy="224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80000"/>
              </a:lnSpc>
              <a:spcBef>
                <a:spcPts val="360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edi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iddle value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when the original data values are arranged in order of increasing (or decreasing) magnitu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43080" y="3705120"/>
            <a:ext cx="8800920" cy="820080"/>
            <a:chOff x="343080" y="3705120"/>
            <a:chExt cx="8800920" cy="820080"/>
          </a:xfrm>
        </p:grpSpPr>
        <p:sp>
          <p:nvSpPr>
            <p:cNvPr id="119" name=""/>
            <p:cNvSpPr/>
            <p:nvPr/>
          </p:nvSpPr>
          <p:spPr>
            <a:xfrm>
              <a:off x="343080" y="3705120"/>
              <a:ext cx="88009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00ae00"/>
                </a:buClr>
                <a:buSzPct val="13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often denoted by </a:t>
              </a:r>
              <a:r>
                <a:rPr b="1" i="1" lang="en-US" sz="3200" spc="-1" strike="noStrike">
                  <a:solidFill>
                    <a:srgbClr val="00279f"/>
                  </a:solidFill>
                  <a:latin typeface="Arial"/>
                </a:rPr>
                <a:t>x</a:t>
              </a: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  (pronounced ‘x-tilde’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9880" y="3809880"/>
              <a:ext cx="388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279f"/>
                  </a:solidFill>
                  <a:latin typeface="Arial"/>
                </a:rPr>
                <a:t>~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3880" y="4782960"/>
            <a:ext cx="87901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110000"/>
              </a:lnSpc>
              <a:spcBef>
                <a:spcPts val="1199"/>
              </a:spcBef>
              <a:buClr>
                <a:srgbClr val="00ae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not affected by an extreme value - is a resistant measure of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28280" y="3627360"/>
            <a:ext cx="5227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2320" y="5119560"/>
            <a:ext cx="7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76520" y="5500800"/>
            <a:ext cx="32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7200" y="5232240"/>
            <a:ext cx="8697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9800" y="264960"/>
            <a:ext cx="48020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the Me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3840" y="271764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f the number of data values is odd, the median is the number located in the exact middle of the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5680" y="4635360"/>
            <a:ext cx="8305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f the number of data values is even, the median is found by computing the mean of the two middl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680" y="1193760"/>
            <a:ext cx="8026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rst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ort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the values (arrange them in order), the follow one of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28280" y="3627360"/>
            <a:ext cx="5227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2320" y="5119560"/>
            <a:ext cx="7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76520" y="5500800"/>
            <a:ext cx="32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7200" y="5232240"/>
            <a:ext cx="8697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1520" y="4114800"/>
            <a:ext cx="7619760" cy="24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2560" y="4243320"/>
            <a:ext cx="757584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5.40       1.10      0.4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73      0.48    1.10    0.6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4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  0.48      0.66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73      1.10    1.10    5.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order - odd number of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xact middle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EDIA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s 0.73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0000" y="5105520"/>
            <a:ext cx="0" cy="739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4720" y="368280"/>
            <a:ext cx="7372440" cy="354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7000" y="291960"/>
            <a:ext cx="67881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5.40       1.10      0.4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73    0.48    1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0.4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  0.48      0.73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1.10    1.10    5.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14720" y="3089160"/>
            <a:ext cx="146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0.73 + 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17600" y="3451320"/>
            <a:ext cx="144468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79200" y="3506760"/>
            <a:ext cx="323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89600" y="2197080"/>
            <a:ext cx="57729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order - even number of values – no exact mid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by two numb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86600" y="3186000"/>
            <a:ext cx="33649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EDIAN is 0.9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051440" y="1587240"/>
            <a:ext cx="644400" cy="605160"/>
            <a:chOff x="4051440" y="1587240"/>
            <a:chExt cx="644400" cy="605160"/>
          </a:xfrm>
        </p:grpSpPr>
        <p:sp>
          <p:nvSpPr>
            <p:cNvPr id="145" name=""/>
            <p:cNvSpPr/>
            <p:nvPr/>
          </p:nvSpPr>
          <p:spPr>
            <a:xfrm flipV="1">
              <a:off x="4683240" y="1587240"/>
              <a:ext cx="0" cy="3272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064040" y="1587240"/>
              <a:ext cx="0" cy="3272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051440" y="1901880"/>
              <a:ext cx="64440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73640" y="1914840"/>
              <a:ext cx="0" cy="2775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20680" y="264960"/>
            <a:ext cx="1504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60240" y="1049040"/>
            <a:ext cx="8280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8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ode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value that occurs with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reatest frequ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8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ata set can have one, more than one, or no m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5784840"/>
            <a:ext cx="78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ode is the only measure of central tendency that can be used with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ominal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880" y="3543480"/>
            <a:ext cx="7881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7400" indent="-2057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Bimod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data values occur with the same greatest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7400" indent="-205740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ultimodal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than two data values occur with the same greatest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7400" indent="-205740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o Mode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data value is rep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83520" y="2214720"/>
            <a:ext cx="4319280" cy="27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  5.40  1.10  0.42  0.73  0.48  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 27  27  27  55  55  55  88  88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 1   2   3   6   7   8   9  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3360" y="2265480"/>
            <a:ext cx="5207040" cy="2241360"/>
          </a:xfrm>
          <a:prstGeom prst="rect">
            <a:avLst/>
          </a:prstGeom>
          <a:noFill/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12720" y="264960"/>
            <a:ext cx="43250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e -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3720" y="4546440"/>
            <a:ext cx="3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860800" y="2290320"/>
            <a:ext cx="3282840" cy="23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70000"/>
              </a:lnSpc>
              <a:spcAft>
                <a:spcPts val="901"/>
              </a:spcAft>
              <a:buClr>
                <a:srgbClr val="fc0128"/>
              </a:buClr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ode is 1.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spcAft>
                <a:spcPts val="901"/>
              </a:spcAft>
              <a:buClr>
                <a:srgbClr val="fc0128"/>
              </a:buClr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imodal -  27 &amp; 5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spcAft>
                <a:spcPts val="901"/>
              </a:spcAft>
              <a:buClr>
                <a:srgbClr val="fc0128"/>
              </a:buClr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o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3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tistics for Describing, Exploring, and Comparing Dat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2800" y="2475000"/>
            <a:ext cx="74898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3-1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view and 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s of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s of Relative Standing and Box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51000" y="1727280"/>
            <a:ext cx="8308800" cy="26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-679320">
              <a:lnSpc>
                <a:spcPct val="90000"/>
              </a:lnSpc>
              <a:spcBef>
                <a:spcPts val="1199"/>
              </a:spcBef>
              <a:spcAft>
                <a:spcPts val="36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idrange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value midway between the maximum and minimum values in the original data s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97960" y="277920"/>
            <a:ext cx="252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52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370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97960" y="4632480"/>
            <a:ext cx="8175600" cy="1122480"/>
            <a:chOff x="597960" y="4632480"/>
            <a:chExt cx="8175600" cy="1122480"/>
          </a:xfrm>
        </p:grpSpPr>
        <p:sp>
          <p:nvSpPr>
            <p:cNvPr id="163" name=""/>
            <p:cNvSpPr/>
            <p:nvPr/>
          </p:nvSpPr>
          <p:spPr>
            <a:xfrm>
              <a:off x="597960" y="4789440"/>
              <a:ext cx="290016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c0128"/>
                  </a:solidFill>
                  <a:latin typeface="Arial"/>
                </a:rPr>
                <a:t>Midrange</a:t>
              </a:r>
              <a:r>
                <a:rPr b="1" lang="en-US" sz="48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5000" y="4632480"/>
              <a:ext cx="50385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spcAft>
                  <a:spcPts val="2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ximum value + minimum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06920" y="5162400"/>
              <a:ext cx="49640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40520" y="5337000"/>
              <a:ext cx="3506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spcAft>
                  <a:spcPts val="2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51000" y="1434600"/>
            <a:ext cx="8308800" cy="17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-67932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nsitive to extremes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ecause it uses only the maximum and minimum values, so rarely u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1520" y="277920"/>
            <a:ext cx="2435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id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352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70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000" y="3340080"/>
            <a:ext cx="830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79320" indent="-67932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deem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2760" y="4013280"/>
            <a:ext cx="75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79320" indent="-67932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ery easy to com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2760" y="4622760"/>
            <a:ext cx="75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2000"/>
          </a:bodyPr>
          <a:p>
            <a:pPr marL="420840" indent="-42084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2) reinforces that there are several ways to define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2760" y="5638680"/>
            <a:ext cx="75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79320" indent="-679320">
              <a:lnSpc>
                <a:spcPct val="100000"/>
              </a:lnSpc>
              <a:spcBef>
                <a:spcPts val="119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3)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voids confusion with med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29720" y="2785680"/>
            <a:ext cx="754236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arry one more decimal place than is present in the original set of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560" y="268200"/>
            <a:ext cx="783756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ound-off Rule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sures of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77520" y="3901680"/>
            <a:ext cx="846612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ink about the method used to collect the sample dat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4880" y="533520"/>
            <a:ext cx="4157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ritical Thin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" y="2184480"/>
            <a:ext cx="7623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ink about whether the results are reason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eyond the Basics of Measures of Cen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98640" y="2327040"/>
            <a:ext cx="7348320" cy="219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spcAft>
                <a:spcPts val="40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ssume that all sample values in each class are equal to the class midpoin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66000" y="254160"/>
            <a:ext cx="601668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n from a Frequen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37960" y="1967040"/>
            <a:ext cx="87235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500"/>
              </a:spcBef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use class midpoint of classes for variable </a:t>
            </a:r>
            <a:r>
              <a:rPr b="1" i="1" lang="en-US" sz="4000" spc="-1" strike="noStrike">
                <a:solidFill>
                  <a:srgbClr val="00279f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67440" y="254160"/>
            <a:ext cx="601668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n from a Frequen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98600" y="4518000"/>
            <a:ext cx="2527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948040" y="3121200"/>
            <a:ext cx="32479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08560" y="266760"/>
            <a:ext cx="38998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eighted M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497680" y="3906720"/>
            <a:ext cx="3461760" cy="1445760"/>
            <a:chOff x="2497680" y="3906720"/>
            <a:chExt cx="3461760" cy="1445760"/>
          </a:xfrm>
        </p:grpSpPr>
        <p:sp>
          <p:nvSpPr>
            <p:cNvPr id="200" name=""/>
            <p:cNvSpPr/>
            <p:nvPr/>
          </p:nvSpPr>
          <p:spPr>
            <a:xfrm>
              <a:off x="2497680" y="4255920"/>
              <a:ext cx="12009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6440" y="4460760"/>
              <a:ext cx="2602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26080" y="4609800"/>
              <a:ext cx="2133360" cy="32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43000" y="4660560"/>
              <a:ext cx="5547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w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5760" y="3906720"/>
              <a:ext cx="23731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1" lang="en-US" sz="4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(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279f"/>
                  </a:solidFill>
                  <a:latin typeface="Times New Roman"/>
                </a:rPr>
                <a:t>•</a:t>
              </a:r>
              <a:r>
                <a:rPr b="1" lang="en-US" sz="36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00279f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10200" y="4624200"/>
              <a:ext cx="5922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919080" y="1471680"/>
            <a:ext cx="7486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en data values are assigned different weights, we can compute a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eighted mea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90520" y="887400"/>
            <a:ext cx="6723000" cy="5664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17520" y="254160"/>
            <a:ext cx="8486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est Measure of 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44400" y="1279440"/>
            <a:ext cx="8499600" cy="528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-679320">
              <a:lnSpc>
                <a:spcPct val="90000"/>
              </a:lnSpc>
              <a:spcBef>
                <a:spcPts val="165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Symmetri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79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stribution of data is symmetric if 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eft half of its histogram is roughly a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irror image of its right hal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0000"/>
              </a:lnSpc>
              <a:spcBef>
                <a:spcPts val="165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Skewe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7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stribution of data is skewed if it is not symmetric and extends more to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ne side than the 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38360" y="277920"/>
            <a:ext cx="5849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kewed and Symmetr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544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794120"/>
            <a:ext cx="35337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49840" y="4637160"/>
            <a:ext cx="505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762120" y="523872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d by Tom Wegleitner, Centreville, Virgi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29280" y="5791320"/>
            <a:ext cx="684000" cy="83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1022400"/>
            <a:ext cx="65534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-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ew and Previe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889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44400" y="1279440"/>
            <a:ext cx="8499600" cy="528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-679320">
              <a:lnSpc>
                <a:spcPct val="90000"/>
              </a:lnSpc>
              <a:spcBef>
                <a:spcPts val="150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Skewed to the lef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9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also called negatively skewed) have a longer left tail, mean and median are to the left of the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0000"/>
              </a:lnSpc>
              <a:spcBef>
                <a:spcPts val="1500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Skewed to the righ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also called positively skewed) have a longer right tail, mean and median are to the right of the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4080" y="277920"/>
            <a:ext cx="52275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kewed Left or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544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794120"/>
            <a:ext cx="35337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49840" y="4637160"/>
            <a:ext cx="505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8880" y="2803320"/>
            <a:ext cx="7547040" cy="184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793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e mean and median cannot always be used to identify the shape of the distributi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52240" y="760320"/>
            <a:ext cx="62136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hape of the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544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794120"/>
            <a:ext cx="35337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49840" y="4637160"/>
            <a:ext cx="505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53680" y="272880"/>
            <a:ext cx="2633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kew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19080" y="3603600"/>
            <a:ext cx="3125880" cy="2611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219640" y="3625920"/>
            <a:ext cx="308124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973080" y="1174680"/>
            <a:ext cx="5105520" cy="1954080"/>
            <a:chOff x="973080" y="1174680"/>
            <a:chExt cx="5105520" cy="1954080"/>
          </a:xfrm>
        </p:grpSpPr>
        <p:sp>
          <p:nvSpPr>
            <p:cNvPr id="231" name=""/>
            <p:cNvSpPr/>
            <p:nvPr/>
          </p:nvSpPr>
          <p:spPr>
            <a:xfrm>
              <a:off x="973080" y="1247760"/>
              <a:ext cx="2379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3071880" y="1174680"/>
              <a:ext cx="3006720" cy="1954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06200" y="260280"/>
            <a:ext cx="1702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143000"/>
            <a:ext cx="6019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this section we have discus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057400"/>
            <a:ext cx="740088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ypes of measures of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78144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n from a frequenc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42584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eighted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7060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est measures of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715000"/>
            <a:ext cx="7238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kew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Picture 10" descr="j0387616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Rectangle 6"/>
          <p:cNvSpPr/>
          <p:nvPr/>
        </p:nvSpPr>
        <p:spPr>
          <a:xfrm>
            <a:off x="1343160" y="1054080"/>
            <a:ext cx="65530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-3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391520" y="889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203040"/>
            <a:ext cx="7162560" cy="7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0840" y="2475000"/>
            <a:ext cx="71658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23880" y="1927080"/>
            <a:ext cx="8153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iscuss characteristics of variation, in particular, measures of variation, such as standard deviation, for analyz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23880" y="3965400"/>
            <a:ext cx="8153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ak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understanding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terpre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standard deviation a p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asics Concepts of Measures of Vari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27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028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29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30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7400" y="215640"/>
            <a:ext cx="7162920" cy="73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923840"/>
            <a:ext cx="831852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ang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of a set of data values is the difference between the maximum data value and the minimum data valu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68360" y="4541760"/>
            <a:ext cx="8548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0128"/>
                </a:solidFill>
                <a:latin typeface="Arial"/>
              </a:rPr>
              <a:t>Range = (maximum value) – (minimum valu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550800" y="5684760"/>
            <a:ext cx="83120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t is very sensitive to extreme values; therefore not as useful as other measures of var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16000"/>
            <a:ext cx="716256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ound-Off Rule for Measures of Varia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888840" y="2071800"/>
            <a:ext cx="74678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en rounding the value of a measure of variation, carry one more decimal place than is present in the original set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" y="4917960"/>
            <a:ext cx="773424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ound only the final answer, not values in the middle of a calc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215640"/>
            <a:ext cx="716256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Text Box 1027"/>
          <p:cNvSpPr/>
          <p:nvPr/>
        </p:nvSpPr>
        <p:spPr>
          <a:xfrm>
            <a:off x="914400" y="223668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andard devi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f a set of sample values, denoted b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is a measure of variation of values about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39800" y="979560"/>
            <a:ext cx="7902720" cy="527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istinguish between population and sample, parameter and statistic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Good sampling methods: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simple random sample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, collect in appropriate way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hapter 2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requency distribution: summarizing data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Graphs designed to help understand data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enter, variation, distribution, outliers, changing characteristics over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254160"/>
            <a:ext cx="7242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66760"/>
            <a:ext cx="8686800" cy="117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ample Standard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viation Formul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271" name="Group 17"/>
          <p:cNvGrpSpPr/>
          <p:nvPr/>
        </p:nvGrpSpPr>
        <p:grpSpPr>
          <a:xfrm>
            <a:off x="1716120" y="2590920"/>
            <a:ext cx="5778360" cy="2155680"/>
            <a:chOff x="1716120" y="2590920"/>
            <a:chExt cx="5778360" cy="2155680"/>
          </a:xfrm>
        </p:grpSpPr>
        <p:sp>
          <p:nvSpPr>
            <p:cNvPr id="272" name="Rectangle 4"/>
            <p:cNvSpPr/>
            <p:nvPr/>
          </p:nvSpPr>
          <p:spPr>
            <a:xfrm>
              <a:off x="1716120" y="320040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4311360" y="2898720"/>
              <a:ext cx="273744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(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 – 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)</a:t>
              </a:r>
              <a:r>
                <a:rPr b="1" lang="en-US" sz="3600" spc="-1" strike="noStrike" baseline="56000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4940280" y="3813120"/>
              <a:ext cx="163080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n 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8"/>
            <p:cNvSpPr/>
            <p:nvPr/>
          </p:nvSpPr>
          <p:spPr>
            <a:xfrm>
              <a:off x="3362400" y="3459240"/>
              <a:ext cx="198360" cy="27468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9"/>
            <p:cNvSpPr/>
            <p:nvPr/>
          </p:nvSpPr>
          <p:spPr>
            <a:xfrm>
              <a:off x="3560760" y="3444840"/>
              <a:ext cx="220680" cy="130176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0"/>
            <p:cNvSpPr/>
            <p:nvPr/>
          </p:nvSpPr>
          <p:spPr>
            <a:xfrm>
              <a:off x="3786120" y="2590920"/>
              <a:ext cx="376200" cy="214632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>
              <a:off x="4167360" y="2590920"/>
              <a:ext cx="332712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1868400" y="320040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4243320" y="3809880"/>
              <a:ext cx="30988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6237360" y="3124080"/>
              <a:ext cx="253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ample Standard Deviation (Shortcut Formula)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284" name="Group 16"/>
          <p:cNvGrpSpPr/>
          <p:nvPr/>
        </p:nvGrpSpPr>
        <p:grpSpPr>
          <a:xfrm>
            <a:off x="1154160" y="2622600"/>
            <a:ext cx="6769080" cy="2152440"/>
            <a:chOff x="1154160" y="2622600"/>
            <a:chExt cx="6769080" cy="2152440"/>
          </a:xfrm>
        </p:grpSpPr>
        <p:sp>
          <p:nvSpPr>
            <p:cNvPr id="285" name="Rectangle 4"/>
            <p:cNvSpPr/>
            <p:nvPr/>
          </p:nvSpPr>
          <p:spPr>
            <a:xfrm>
              <a:off x="1249200" y="317484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4329360" y="3863880"/>
              <a:ext cx="264132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n 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(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n 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7"/>
            <p:cNvSpPr/>
            <p:nvPr/>
          </p:nvSpPr>
          <p:spPr>
            <a:xfrm>
              <a:off x="3529080" y="3841920"/>
              <a:ext cx="420372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>
              <a:off x="2452680" y="3487680"/>
              <a:ext cx="190440" cy="30492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9"/>
            <p:cNvSpPr/>
            <p:nvPr/>
          </p:nvSpPr>
          <p:spPr>
            <a:xfrm>
              <a:off x="2652840" y="3473280"/>
              <a:ext cx="311040" cy="130176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2959200" y="2625840"/>
              <a:ext cx="507960" cy="2143080"/>
            </a:xfrm>
            <a:prstGeom prst="pie">
              <a:avLst/>
            </a:prstGeom>
            <a:noFill/>
            <a:ln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3468600" y="2622600"/>
              <a:ext cx="44546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1154160" y="323208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3200" spc="-1" strike="noStrike" baseline="74000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3569400" y="2968560"/>
              <a:ext cx="401328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n</a:t>
              </a:r>
              <a:r>
                <a:rPr b="1" lang="en-US" sz="5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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1" lang="en-US" sz="3600" spc="-1" strike="noStrike" baseline="50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)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lang="en-US" sz="54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(</a:t>
              </a:r>
              <a:r>
                <a:rPr b="1" lang="en-US" sz="5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</a:t>
              </a:r>
              <a:r>
                <a:rPr b="1" i="1" lang="en-US" sz="5400" spc="-1" strike="noStrike">
                  <a:solidFill>
                    <a:srgbClr val="00279f"/>
                  </a:solidFill>
                  <a:latin typeface="Times New Roman"/>
                </a:rPr>
                <a:t>x</a:t>
              </a:r>
              <a:r>
                <a:rPr b="0" lang="en-US" sz="5400" spc="-1" strike="noStrike">
                  <a:solidFill>
                    <a:srgbClr val="00279f"/>
                  </a:solidFill>
                  <a:latin typeface="Arial"/>
                </a:rPr>
                <a:t>)</a:t>
              </a:r>
              <a:r>
                <a:rPr b="1" lang="en-US" sz="3600" spc="-1" strike="noStrike" baseline="50000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28600" y="1443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ndard Deviation -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mportant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80880" y="1498680"/>
            <a:ext cx="8305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standard deviation is a measure of variation of all values from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ean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80880" y="2532240"/>
            <a:ext cx="8305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value of the standard deviation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is usually 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80880" y="356544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value of the standard deviation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can increase dramatically with the inclusion of one or more outliers (data values far away from all oth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80880" y="5372280"/>
            <a:ext cx="857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units of the standard deviation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are the same as the units of the original data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228600" y="144360"/>
            <a:ext cx="86868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mparing Variation in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ifferent S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736560" y="2087640"/>
            <a:ext cx="7886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t’s a good practice to compare two sample standard deviations only when the sample means are approximately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825480" y="4297320"/>
            <a:ext cx="7886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en comparing variation in samples with very different means, it is better to use the coefficient of variation, which is defined later in this 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5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opulation Standard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via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316400" y="1989000"/>
            <a:ext cx="26114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05240" y="2827440"/>
            <a:ext cx="6796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6700320" y="1946160"/>
            <a:ext cx="280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1600200" y="2284560"/>
            <a:ext cx="16444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701800" y="2854440"/>
            <a:ext cx="511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6983280" y="2251080"/>
            <a:ext cx="478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0"/>
          <p:cNvSpPr/>
          <p:nvPr/>
        </p:nvSpPr>
        <p:spPr>
          <a:xfrm flipH="1" flipV="1">
            <a:off x="4148280" y="3174840"/>
            <a:ext cx="203040" cy="81288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4661280" y="2227320"/>
            <a:ext cx="268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Symbol"/>
                <a:ea typeface="Symbol"/>
              </a:rPr>
              <a:t></a:t>
            </a:r>
            <a:r>
              <a:rPr b="1" lang="en-US" sz="5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279f"/>
                </a:solidFill>
                <a:latin typeface="Arial"/>
              </a:rPr>
              <a:t>(</a:t>
            </a:r>
            <a:r>
              <a:rPr b="1" i="1" lang="en-US" sz="5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1" lang="en-US" sz="5400" spc="-1" strike="noStrike">
                <a:solidFill>
                  <a:srgbClr val="00279f"/>
                </a:solidFill>
                <a:latin typeface="Times New Roman"/>
              </a:rPr>
              <a:t> – </a:t>
            </a:r>
            <a:r>
              <a:rPr b="1" i="1" lang="en-US" sz="5400" spc="-1" strike="noStrike">
                <a:solidFill>
                  <a:srgbClr val="00279f"/>
                </a:solidFill>
                <a:latin typeface="Times New Roman"/>
              </a:rPr>
              <a:t>µ</a:t>
            </a:r>
            <a:r>
              <a:rPr b="0" lang="en-US" sz="5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4745160" y="3130560"/>
            <a:ext cx="2468520" cy="144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5587920" y="3127320"/>
            <a:ext cx="676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79f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14"/>
          <p:cNvSpPr/>
          <p:nvPr/>
        </p:nvSpPr>
        <p:spPr>
          <a:xfrm>
            <a:off x="4351320" y="1905120"/>
            <a:ext cx="453960" cy="2082600"/>
          </a:xfrm>
          <a:prstGeom prst="pie">
            <a:avLst/>
          </a:prstGeom>
          <a:noFill/>
          <a:ln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4795920" y="1930320"/>
            <a:ext cx="2539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6"/>
          <p:cNvSpPr/>
          <p:nvPr/>
        </p:nvSpPr>
        <p:spPr>
          <a:xfrm>
            <a:off x="4005360" y="3178080"/>
            <a:ext cx="137880" cy="212760"/>
          </a:xfrm>
          <a:prstGeom prst="pie">
            <a:avLst/>
          </a:prstGeom>
          <a:noFill/>
          <a:ln w="507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1983960" y="2584440"/>
            <a:ext cx="16426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1" lang="en-US" sz="6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00279f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914400" y="4724280"/>
            <a:ext cx="75582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is formula is similar to the previous formula, but instead, the population mean and population size ar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552600" y="5127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opulation variance: </a:t>
            </a:r>
            <a:r>
              <a:rPr b="1" i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- Square of the population standard deviation </a:t>
            </a:r>
            <a:r>
              <a:rPr b="1" i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216000"/>
            <a:ext cx="7162560" cy="7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Varianc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533520" y="162576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variance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of a set of values is a measure of variation equal to the square of the standard dev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577800" y="3544920"/>
            <a:ext cx="7848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ample variance: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- Square of the sample standard deviation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216000"/>
            <a:ext cx="7162560" cy="7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Unbiased Estimator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047600" y="2058840"/>
            <a:ext cx="7378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sample variance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s an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nbiased estimat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of the population variance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ich means values of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tend to target the value of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nstead of systematically tending to overestimate or underestimate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21708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Variance - Nota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560" y="1951200"/>
            <a:ext cx="793440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ample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standard de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6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ample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population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standard de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population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3686040" y="3227400"/>
            <a:ext cx="3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eyond the Basics of Measures of Vari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27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028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29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0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318960" y="268200"/>
            <a:ext cx="8461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ange Rule of Thu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787320" y="1994040"/>
            <a:ext cx="766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based on the principle that for many data sets, the vast majority (such as 95%) of sample values lie within two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39800" y="1779480"/>
            <a:ext cx="7902720" cy="40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mportant Statistic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5000"/>
              </a:lnSpc>
              <a:spcBef>
                <a:spcPts val="3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n, median, standard deviation, vari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nderstanding and Interpreting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0000"/>
              </a:lnSpc>
              <a:spcBef>
                <a:spcPts val="3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se important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254160"/>
            <a:ext cx="7242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26"/>
          <p:cNvSpPr/>
          <p:nvPr/>
        </p:nvSpPr>
        <p:spPr>
          <a:xfrm>
            <a:off x="318960" y="268200"/>
            <a:ext cx="846144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ange Rule of Thumb for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nterpreting a Known Value of the  Standard Dev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27"/>
          <p:cNvSpPr/>
          <p:nvPr/>
        </p:nvSpPr>
        <p:spPr>
          <a:xfrm>
            <a:off x="482760" y="2362320"/>
            <a:ext cx="850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formally define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usual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 values in a data set to be those that are typical and not too extreme. Find rough estimates of the minimum and maximum “usual” sample values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1028"/>
          <p:cNvGrpSpPr/>
          <p:nvPr/>
        </p:nvGrpSpPr>
        <p:grpSpPr>
          <a:xfrm>
            <a:off x="247680" y="4348080"/>
            <a:ext cx="8896320" cy="527400"/>
            <a:chOff x="247680" y="4348080"/>
            <a:chExt cx="8896320" cy="527400"/>
          </a:xfrm>
        </p:grpSpPr>
        <p:sp>
          <p:nvSpPr>
            <p:cNvPr id="346" name="Text Box 1029"/>
            <p:cNvSpPr/>
            <p:nvPr/>
          </p:nvSpPr>
          <p:spPr>
            <a:xfrm>
              <a:off x="247680" y="4425840"/>
              <a:ext cx="8896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nimum “usual” value     (mean) – 2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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 (standard devi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030"/>
            <p:cNvSpPr/>
            <p:nvPr/>
          </p:nvSpPr>
          <p:spPr>
            <a:xfrm>
              <a:off x="3650760" y="4348080"/>
              <a:ext cx="4723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1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1031"/>
          <p:cNvGrpSpPr/>
          <p:nvPr/>
        </p:nvGrpSpPr>
        <p:grpSpPr>
          <a:xfrm>
            <a:off x="247680" y="5345280"/>
            <a:ext cx="8896320" cy="829800"/>
            <a:chOff x="247680" y="5345280"/>
            <a:chExt cx="8896320" cy="829800"/>
          </a:xfrm>
        </p:grpSpPr>
        <p:sp>
          <p:nvSpPr>
            <p:cNvPr id="349" name="Text Box 1032"/>
            <p:cNvSpPr/>
            <p:nvPr/>
          </p:nvSpPr>
          <p:spPr>
            <a:xfrm>
              <a:off x="247680" y="5423040"/>
              <a:ext cx="88963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ximum “usual” value     (mean) + 2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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 (standard devi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033"/>
            <p:cNvSpPr/>
            <p:nvPr/>
          </p:nvSpPr>
          <p:spPr>
            <a:xfrm>
              <a:off x="3688920" y="5345280"/>
              <a:ext cx="4723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1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7840" y="268200"/>
            <a:ext cx="875664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ange Rule of Thumb for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stimating a Value of the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ndard Deviation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079640" y="2355840"/>
            <a:ext cx="76960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o roughly estimate the standard deviation from a collection of known sample data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ange = (maximum value) – (minimum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3517200" y="4054320"/>
            <a:ext cx="2075400" cy="1220040"/>
            <a:chOff x="3517200" y="4054320"/>
            <a:chExt cx="2075400" cy="1220040"/>
          </a:xfrm>
        </p:grpSpPr>
        <p:sp>
          <p:nvSpPr>
            <p:cNvPr id="355" name="Rectangle 6"/>
            <p:cNvSpPr/>
            <p:nvPr/>
          </p:nvSpPr>
          <p:spPr>
            <a:xfrm>
              <a:off x="4304880" y="4054320"/>
              <a:ext cx="128772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7"/>
            <p:cNvSpPr/>
            <p:nvPr/>
          </p:nvSpPr>
          <p:spPr>
            <a:xfrm>
              <a:off x="4406760" y="4603680"/>
              <a:ext cx="111708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517200" y="4316400"/>
              <a:ext cx="8427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8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c0128"/>
                  </a:solidFill>
                  <a:latin typeface="Arial"/>
                </a:rPr>
                <a:t>s</a:t>
              </a:r>
              <a:r>
                <a:rPr b="1" lang="en-US" sz="32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026"/>
          <p:cNvSpPr/>
          <p:nvPr/>
        </p:nvSpPr>
        <p:spPr>
          <a:xfrm>
            <a:off x="177840" y="268200"/>
            <a:ext cx="87566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perties of the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ndard Dev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27"/>
          <p:cNvSpPr/>
          <p:nvPr/>
        </p:nvSpPr>
        <p:spPr>
          <a:xfrm>
            <a:off x="685800" y="1771560"/>
            <a:ext cx="80899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easures the variation among data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alues close together have a small standard deviation, but values with much more variation have a larger 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as the same units of measurement as the origin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77840" y="268200"/>
            <a:ext cx="87566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perties of the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tandard Dev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85800" y="1771560"/>
            <a:ext cx="808992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many data sets, a value is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unusual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f it differs from the mean by more than two standard dev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279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are standard deviations of two different data sets only if the they use the same scale and units, and they have means that are approximatel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945360" y="266760"/>
            <a:ext cx="729108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mpirical (or 68-95-99.7)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438120" y="1276200"/>
            <a:ext cx="8381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ata sets having a distribution that is approximately bell shaped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the following properties app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58720" y="3067200"/>
            <a:ext cx="809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bout 68% of all values fall within 1 standard deviation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84280" y="4264200"/>
            <a:ext cx="8096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bout 95% of all values fall within 2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558720" y="5410080"/>
            <a:ext cx="809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bout 99.7% of all values fall within 3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2197440" y="254160"/>
            <a:ext cx="47505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29" descr="2_13_1"/>
          <p:cNvPicPr/>
          <p:nvPr/>
        </p:nvPicPr>
        <p:blipFill>
          <a:blip r:embed="rId1"/>
          <a:stretch/>
        </p:blipFill>
        <p:spPr>
          <a:xfrm>
            <a:off x="851040" y="2674800"/>
            <a:ext cx="7440480" cy="34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2197440" y="254160"/>
            <a:ext cx="47505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9" descr="2_13_2"/>
          <p:cNvPicPr/>
          <p:nvPr/>
        </p:nvPicPr>
        <p:blipFill>
          <a:blip r:embed="rId1"/>
          <a:stretch/>
        </p:blipFill>
        <p:spPr>
          <a:xfrm>
            <a:off x="851040" y="2044800"/>
            <a:ext cx="744048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2197440" y="254160"/>
            <a:ext cx="475056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6" descr="2_13_3"/>
          <p:cNvPicPr/>
          <p:nvPr/>
        </p:nvPicPr>
        <p:blipFill>
          <a:blip r:embed="rId1"/>
          <a:stretch/>
        </p:blipFill>
        <p:spPr>
          <a:xfrm>
            <a:off x="838080" y="987480"/>
            <a:ext cx="745992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240840"/>
            <a:ext cx="716256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hebyshev’s Theorem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647640" y="1136520"/>
            <a:ext cx="80773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proportion (or fraction) of any set of data lying within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standard deviations of the mean is always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t least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–1/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where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s any positive number greater than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666720" y="3581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= 2, at least 3/4 (or 75%) of all values lie within 2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692280" y="51055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= 3, at least 8/9 (or 89%) of all values lie within 3 standard deviations of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966960" y="534960"/>
            <a:ext cx="7162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ationale for us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n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– 1 versus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85800" y="1450800"/>
            <a:ext cx="7791480" cy="42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re are onl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– 1 independent values. With a given mean, onl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– 1 values can be freely assigned any number before the last value is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viding b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– 1 yields better results than dividing b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 It causes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to target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whereas division by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causes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to underestimate </a:t>
            </a:r>
            <a:r>
              <a:rPr b="1" i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39800" y="1385640"/>
            <a:ext cx="7902720" cy="49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escriptive Statistic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5000"/>
              </a:lnSpc>
              <a:spcBef>
                <a:spcPts val="3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this chapter we’ll learn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ummarize or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escribe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important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haracteristics of a known set of da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ferential Statistics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lnSpc>
                <a:spcPct val="100000"/>
              </a:lnSpc>
              <a:spcBef>
                <a:spcPts val="3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later chapters we’ll learn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use sample data to mak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ferences or generaliz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bout a po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254160"/>
            <a:ext cx="7242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7000" y="228600"/>
            <a:ext cx="727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efficient of Var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812880" y="1403280"/>
            <a:ext cx="750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efficient of vari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(or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V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) for a set of nonnegative sample or population data, expressed as a percent, describes the standard deviation relative to the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1735200" y="3317760"/>
            <a:ext cx="133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5773680" y="3317760"/>
            <a:ext cx="1886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8"/>
          <p:cNvGrpSpPr/>
          <p:nvPr/>
        </p:nvGrpSpPr>
        <p:grpSpPr>
          <a:xfrm>
            <a:off x="1079640" y="4165560"/>
            <a:ext cx="2666160" cy="1081080"/>
            <a:chOff x="1079640" y="4165560"/>
            <a:chExt cx="2666160" cy="1081080"/>
          </a:xfrm>
        </p:grpSpPr>
        <p:sp>
          <p:nvSpPr>
            <p:cNvPr id="393" name="Rectangle 37"/>
            <p:cNvSpPr/>
            <p:nvPr/>
          </p:nvSpPr>
          <p:spPr>
            <a:xfrm>
              <a:off x="2067840" y="4221000"/>
              <a:ext cx="2048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279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>
              <a:off x="2070000" y="4605480"/>
              <a:ext cx="1000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279f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>
              <a:off x="1079640" y="4432320"/>
              <a:ext cx="895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CV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AutoShape 31"/>
            <p:cNvSpPr/>
            <p:nvPr/>
          </p:nvSpPr>
          <p:spPr>
            <a:xfrm>
              <a:off x="1343160" y="4165560"/>
              <a:ext cx="1755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>
              <a:off x="2066760" y="4681440"/>
              <a:ext cx="216000" cy="1800"/>
            </a:xfrm>
            <a:prstGeom prst="line">
              <a:avLst/>
            </a:prstGeom>
            <a:ln w="20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>
              <a:off x="2036880" y="4622760"/>
              <a:ext cx="277560" cy="1800"/>
            </a:xfrm>
            <a:prstGeom prst="line">
              <a:avLst/>
            </a:prstGeom>
            <a:ln w="20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35"/>
            <p:cNvSpPr/>
            <p:nvPr/>
          </p:nvSpPr>
          <p:spPr>
            <a:xfrm>
              <a:off x="2450880" y="4340160"/>
              <a:ext cx="168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6"/>
            <p:cNvSpPr/>
            <p:nvPr/>
          </p:nvSpPr>
          <p:spPr>
            <a:xfrm>
              <a:off x="2707200" y="4356000"/>
              <a:ext cx="10386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100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49"/>
          <p:cNvGrpSpPr/>
          <p:nvPr/>
        </p:nvGrpSpPr>
        <p:grpSpPr>
          <a:xfrm>
            <a:off x="5407200" y="4062240"/>
            <a:ext cx="2627640" cy="1043280"/>
            <a:chOff x="5407200" y="4062240"/>
            <a:chExt cx="2627640" cy="1043280"/>
          </a:xfrm>
        </p:grpSpPr>
        <p:sp>
          <p:nvSpPr>
            <p:cNvPr id="402" name="Rectangle 44"/>
            <p:cNvSpPr/>
            <p:nvPr/>
          </p:nvSpPr>
          <p:spPr>
            <a:xfrm>
              <a:off x="6461280" y="4587840"/>
              <a:ext cx="2124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5407200" y="4379760"/>
              <a:ext cx="876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CV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40"/>
            <p:cNvSpPr/>
            <p:nvPr/>
          </p:nvSpPr>
          <p:spPr>
            <a:xfrm>
              <a:off x="6359400" y="4081320"/>
              <a:ext cx="16430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6421320" y="4578480"/>
              <a:ext cx="290520" cy="144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43"/>
            <p:cNvSpPr/>
            <p:nvPr/>
          </p:nvSpPr>
          <p:spPr>
            <a:xfrm>
              <a:off x="6447960" y="4062240"/>
              <a:ext cx="2232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5"/>
            <p:cNvSpPr/>
            <p:nvPr/>
          </p:nvSpPr>
          <p:spPr>
            <a:xfrm>
              <a:off x="6893280" y="4295880"/>
              <a:ext cx="153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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46"/>
            <p:cNvSpPr/>
            <p:nvPr/>
          </p:nvSpPr>
          <p:spPr>
            <a:xfrm>
              <a:off x="7089120" y="4332240"/>
              <a:ext cx="9457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279f"/>
                  </a:solidFill>
                  <a:latin typeface="Arial"/>
                </a:rPr>
                <a:t>100%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16000"/>
            <a:ext cx="7858080" cy="7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84360" y="1398600"/>
            <a:ext cx="813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 this section we have looked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15960" y="2065320"/>
            <a:ext cx="813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15960" y="2610000"/>
            <a:ext cx="8134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ndard deviation of a sample and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615960" y="3586320"/>
            <a:ext cx="813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ariance of a sample and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628560" y="5692680"/>
            <a:ext cx="8134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efficient of variation (C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15960" y="4073400"/>
            <a:ext cx="813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ange rule of th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28560" y="4618080"/>
            <a:ext cx="8134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iric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628560" y="5164200"/>
            <a:ext cx="8134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hebyshev’s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"/>
          <p:cNvSpPr/>
          <p:nvPr/>
        </p:nvSpPr>
        <p:spPr>
          <a:xfrm>
            <a:off x="1295280" y="1006560"/>
            <a:ext cx="70866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Relative Standing and Box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932200" y="276120"/>
            <a:ext cx="32796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3040" y="1147680"/>
            <a:ext cx="804060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is section introduces measures of relative standing, which are numbers showing the location of data values relative to the other values within a data set. They can be used to compare values from different data sets, or to compare values within the same data set.  The most important concept is the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score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 We will also discuss percentiles and quartiles, as well as a new statistical graph called the boxp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asics of </a:t>
            </a:r>
            <a:r>
              <a:rPr b="1" i="1" lang="en-US" sz="40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 Scores, Percentiles, Quartiles, and Boxplo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84040" y="169236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  Score</a:t>
            </a:r>
            <a:r>
              <a:rPr b="1" lang="en-US" sz="6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or standardized val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239"/>
              </a:spcBef>
              <a:spcAft>
                <a:spcPts val="28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the number of standard deviations 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that a given value</a:t>
            </a:r>
            <a:r>
              <a:rPr b="1" lang="en-US" sz="33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33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33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is above or below 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00279f"/>
                </a:solidFill>
                <a:latin typeface="Arial"/>
              </a:rPr>
              <a:t>the mea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55920" y="417600"/>
            <a:ext cx="40021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72640" y="276120"/>
            <a:ext cx="19857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Z sc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596520" y="190512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1800"/>
              </a:spcBef>
              <a:spcAft>
                <a:spcPts val="4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Sampl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11680" y="1905120"/>
            <a:ext cx="419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800"/>
              </a:spcBef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op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168880" y="3316320"/>
            <a:ext cx="2819160" cy="1342800"/>
            <a:chOff x="5168880" y="3316320"/>
            <a:chExt cx="2819160" cy="1342800"/>
          </a:xfrm>
        </p:grpSpPr>
        <p:sp>
          <p:nvSpPr>
            <p:cNvPr id="436" name=""/>
            <p:cNvSpPr/>
            <p:nvPr/>
          </p:nvSpPr>
          <p:spPr>
            <a:xfrm>
              <a:off x="5970600" y="3316320"/>
              <a:ext cx="159876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4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x </a:t>
              </a:r>
              <a:r>
                <a:rPr b="1" lang="en-US" sz="48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 µ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168880" y="3632400"/>
              <a:ext cx="2819160" cy="1026720"/>
              <a:chOff x="5168880" y="3632400"/>
              <a:chExt cx="2819160" cy="1026720"/>
            </a:xfrm>
          </p:grpSpPr>
          <p:sp>
            <p:nvSpPr>
              <p:cNvPr id="438" name=""/>
              <p:cNvSpPr/>
              <p:nvPr/>
            </p:nvSpPr>
            <p:spPr>
              <a:xfrm>
                <a:off x="5168880" y="3632400"/>
                <a:ext cx="28191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90000"/>
                  </a:lnSpc>
                  <a:spcBef>
                    <a:spcPts val="1650"/>
                  </a:spcBef>
                  <a:spcAft>
                    <a:spcPts val="38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279f"/>
                    </a:solidFill>
                    <a:latin typeface="Arial"/>
                  </a:rPr>
                  <a:t>z</a:t>
                </a:r>
                <a:r>
                  <a:rPr b="1" lang="en-US" sz="4400" spc="-1" strike="noStrike">
                    <a:solidFill>
                      <a:srgbClr val="00279f"/>
                    </a:solidFill>
                    <a:latin typeface="Arial"/>
                  </a:rPr>
                  <a:t> =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248160" y="4013280"/>
                <a:ext cx="1117800" cy="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40040" y="3967200"/>
                <a:ext cx="518400" cy="69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279f"/>
                    </a:solidFill>
                    <a:latin typeface="Symbol"/>
                    <a:ea typeface="Symbol"/>
                  </a:rPr>
                  <a:t>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89440" y="3895920"/>
                <a:ext cx="511200" cy="69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635040" y="5251320"/>
            <a:ext cx="7905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349"/>
              </a:spcBef>
              <a:spcAft>
                <a:spcPts val="3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ound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scores to 2 decimal pl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6080" y="262080"/>
            <a:ext cx="8645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easures of Position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825480" y="3354480"/>
            <a:ext cx="2819520" cy="1266840"/>
            <a:chOff x="825480" y="3354480"/>
            <a:chExt cx="2819520" cy="1266840"/>
          </a:xfrm>
        </p:grpSpPr>
        <p:sp>
          <p:nvSpPr>
            <p:cNvPr id="445" name=""/>
            <p:cNvSpPr/>
            <p:nvPr/>
          </p:nvSpPr>
          <p:spPr>
            <a:xfrm>
              <a:off x="825480" y="3670560"/>
              <a:ext cx="2819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650"/>
                </a:spcBef>
                <a:spcAft>
                  <a:spcPts val="38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Arial"/>
                </a:rPr>
                <a:t>z</a:t>
              </a:r>
              <a:r>
                <a:rPr b="1" lang="en-US" sz="4400" spc="-1" strike="noStrike">
                  <a:solidFill>
                    <a:srgbClr val="00279f"/>
                  </a:solidFill>
                  <a:latin typeface="Arial"/>
                </a:rPr>
                <a:t>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03240" y="3354480"/>
              <a:ext cx="140076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4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x </a:t>
              </a:r>
              <a:r>
                <a:rPr b="1" lang="en-US" sz="4800" spc="-1" strike="noStrike">
                  <a:solidFill>
                    <a:srgbClr val="00279f"/>
                  </a:solidFill>
                  <a:latin typeface="Times New Roman"/>
                </a:rPr>
                <a:t>–</a:t>
              </a:r>
              <a:r>
                <a:rPr b="1" i="1" lang="en-US" sz="4800" spc="-1" strike="noStrike">
                  <a:solidFill>
                    <a:srgbClr val="00279f"/>
                  </a:solidFill>
                  <a:latin typeface="Times New Roman"/>
                </a:rPr>
                <a:t> 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3975480"/>
              <a:ext cx="111780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84480" y="3929400"/>
              <a:ext cx="49248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279f"/>
                  </a:solidFill>
                  <a:latin typeface="Arial"/>
                </a:rPr>
                <a:t>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03680" y="3548160"/>
              <a:ext cx="280800" cy="5040"/>
            </a:xfrm>
            <a:custGeom>
              <a:avLst/>
              <a:gdLst/>
              <a:ahLst/>
              <a:rect l="l" t="t" r="r" b="b"/>
              <a:pathLst>
                <a:path w="177" h="3">
                  <a:moveTo>
                    <a:pt x="0" y="3"/>
                  </a:moveTo>
                  <a:lnTo>
                    <a:pt x="177" y="0"/>
                  </a:lnTo>
                </a:path>
              </a:pathLst>
            </a:custGeom>
            <a:noFill/>
            <a:ln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28680" y="187200"/>
            <a:ext cx="597204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19880" y="266760"/>
            <a:ext cx="52851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nterpret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7960" y="3683160"/>
            <a:ext cx="81532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henever a value is less than the mean, its corresponding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 is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Ordinary values:     –2 ≤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 ≤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Unusual Values:     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 &lt; –2  or 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 &gt;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36680" y="1650960"/>
            <a:ext cx="82818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92280" y="189000"/>
            <a:ext cx="77724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ercent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74800" y="2101680"/>
            <a:ext cx="783252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re measures of location. There are 99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ercentile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noted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. . .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99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which divide a set of data into 100 groups with about 1% of the values in eac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90480" y="210960"/>
            <a:ext cx="77724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the Percenti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f a Data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92040" y="2540160"/>
            <a:ext cx="8375760" cy="1015560"/>
            <a:chOff x="392040" y="2540160"/>
            <a:chExt cx="8375760" cy="1015560"/>
          </a:xfrm>
        </p:grpSpPr>
        <p:sp>
          <p:nvSpPr>
            <p:cNvPr id="458" name=""/>
            <p:cNvSpPr/>
            <p:nvPr/>
          </p:nvSpPr>
          <p:spPr>
            <a:xfrm>
              <a:off x="392040" y="2803680"/>
              <a:ext cx="83757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279f"/>
                  </a:solidFill>
                  <a:latin typeface="Arial"/>
                </a:rPr>
                <a:t>Percentile of value </a:t>
              </a:r>
              <a:r>
                <a:rPr b="1" i="1" lang="en-US" sz="2300" spc="-1" strike="noStrike">
                  <a:solidFill>
                    <a:srgbClr val="00279f"/>
                  </a:solidFill>
                  <a:latin typeface="Arial"/>
                </a:rPr>
                <a:t>x </a:t>
              </a:r>
              <a:r>
                <a:rPr b="1" lang="en-US" sz="2300" spc="-1" strike="noStrike">
                  <a:solidFill>
                    <a:srgbClr val="00279f"/>
                  </a:solidFill>
                  <a:latin typeface="Arial"/>
                </a:rPr>
                <a:t>=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</a:t>
              </a:r>
              <a:r>
                <a:rPr b="1" lang="en-US" sz="2300" spc="-1" strike="noStrike">
                  <a:solidFill>
                    <a:srgbClr val="fc0128"/>
                  </a:solidFill>
                  <a:latin typeface="Arial"/>
                </a:rPr>
                <a:t>•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c0128"/>
                  </a:solidFill>
                  <a:latin typeface="Arial"/>
                </a:rPr>
                <a:t>1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15560" y="2540160"/>
              <a:ext cx="4195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c0128"/>
                  </a:solidFill>
                  <a:latin typeface="Arial"/>
                </a:rPr>
                <a:t>number of values less than </a:t>
              </a:r>
              <a:r>
                <a:rPr b="1" i="1" lang="en-US" sz="23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25680" y="3116520"/>
              <a:ext cx="33012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c0128"/>
                  </a:solidFill>
                  <a:latin typeface="Arial"/>
                </a:rPr>
                <a:t>total number of value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76760" y="3022920"/>
              <a:ext cx="405432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1295280" y="1022400"/>
            <a:ext cx="65534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889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359160" y="2387520"/>
            <a:ext cx="57848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otal number of values in the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ercentile being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locator that give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osition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of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 percen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93640" y="3219480"/>
            <a:ext cx="2187000" cy="1067400"/>
            <a:chOff x="593640" y="3219480"/>
            <a:chExt cx="2187000" cy="1067400"/>
          </a:xfrm>
        </p:grpSpPr>
        <p:sp>
          <p:nvSpPr>
            <p:cNvPr id="464" name=""/>
            <p:cNvSpPr/>
            <p:nvPr/>
          </p:nvSpPr>
          <p:spPr>
            <a:xfrm>
              <a:off x="593640" y="3456000"/>
              <a:ext cx="218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279f"/>
                  </a:solidFill>
                  <a:latin typeface="Times New Roman"/>
                </a:rPr>
                <a:t>L =        </a:t>
              </a:r>
              <a:r>
                <a:rPr b="1" lang="en-US" sz="2300" spc="-1" strike="noStrike">
                  <a:solidFill>
                    <a:srgbClr val="00279f"/>
                  </a:solidFill>
                  <a:latin typeface="Arial"/>
                </a:rPr>
                <a:t>• </a:t>
              </a:r>
              <a:r>
                <a:rPr b="1" i="1" lang="en-US" sz="3600" spc="-1" strike="noStrike">
                  <a:solidFill>
                    <a:srgbClr val="00279f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09560" y="3219480"/>
              <a:ext cx="41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279f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49080" y="3800520"/>
              <a:ext cx="5842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90400" y="3832200"/>
              <a:ext cx="70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990720" y="2109960"/>
            <a:ext cx="340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1960" y="254160"/>
            <a:ext cx="85647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nverting from the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 Percentile to the Corresponding Data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71600" y="76320"/>
            <a:ext cx="4343400" cy="65023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403360" y="190440"/>
            <a:ext cx="6572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nverting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 Percentile to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rresponding Data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79320" y="146160"/>
            <a:ext cx="77724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Quart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760" y="2571840"/>
            <a:ext cx="88772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2920" y="2806560"/>
            <a:ext cx="798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(First Quartil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eparates the bottom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25% of sorted values from the top 7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9960" y="3919680"/>
            <a:ext cx="79819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(Second Quartil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ame as the median;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eparates the bottom 50% of sorted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values from the top 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9960" y="5454720"/>
            <a:ext cx="7981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(Third Quartil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eparates the bottom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75% of sorted values from the top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7040" y="1231920"/>
            <a:ext cx="798192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re measures of location, denoted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, which divide a set of data into four groups with about 25% of the values in each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52280" y="15112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4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,  </a:t>
            </a: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4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,  </a:t>
            </a: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40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v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ank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cores into four equal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9320" y="120600"/>
            <a:ext cx="77724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Quart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6280" y="4230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869840" y="3471840"/>
            <a:ext cx="5412600" cy="1815120"/>
            <a:chOff x="1869840" y="3471840"/>
            <a:chExt cx="5412600" cy="1815120"/>
          </a:xfrm>
        </p:grpSpPr>
        <p:sp>
          <p:nvSpPr>
            <p:cNvPr id="482" name=""/>
            <p:cNvSpPr/>
            <p:nvPr/>
          </p:nvSpPr>
          <p:spPr>
            <a:xfrm>
              <a:off x="2768400" y="3949560"/>
              <a:ext cx="353664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55800" y="375264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32040" y="377172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46440" y="377172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60840" y="377172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18000" y="3771720"/>
              <a:ext cx="0" cy="37476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29960" y="347184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63440" y="349092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96920" y="349092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35000" y="351000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66360" y="4092480"/>
              <a:ext cx="81864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279f"/>
                  </a:solidFill>
                  <a:latin typeface="Arial"/>
                </a:rPr>
                <a:t>Q</a:t>
              </a:r>
              <a:r>
                <a:rPr b="0" lang="en-US" sz="4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51960" y="4092480"/>
              <a:ext cx="81864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279f"/>
                  </a:solidFill>
                  <a:latin typeface="Arial"/>
                </a:rPr>
                <a:t>Q</a:t>
              </a:r>
              <a:r>
                <a:rPr b="0" lang="en-US" sz="4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37560" y="4092480"/>
              <a:ext cx="81864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279f"/>
                  </a:solidFill>
                  <a:latin typeface="Arial"/>
                </a:rPr>
                <a:t>Q</a:t>
              </a:r>
              <a:r>
                <a:rPr b="0" lang="en-US" sz="4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69840" y="4303800"/>
              <a:ext cx="13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(minim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83480" y="4303800"/>
              <a:ext cx="139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(maximu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92120" y="4951440"/>
              <a:ext cx="11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(media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558720" y="1892160"/>
            <a:ext cx="6267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8520" y="1676520"/>
            <a:ext cx="867312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801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Interquartile Range (or IQR):  </a:t>
            </a:r>
            <a:r>
              <a:rPr b="0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– </a:t>
            </a:r>
            <a:r>
              <a:rPr b="0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1 </a:t>
            </a:r>
            <a:r>
              <a:rPr b="0" lang="en-US" sz="3200" spc="-1" strike="noStrike" baseline="-25000">
                <a:solidFill>
                  <a:srgbClr val="00279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7200" y="4933800"/>
            <a:ext cx="79038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10 - 90 Percentile Range:  </a:t>
            </a:r>
            <a:r>
              <a:rPr b="0" i="1" lang="en-US" sz="36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90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– </a:t>
            </a:r>
            <a:r>
              <a:rPr b="0" i="1" lang="en-US" sz="36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00600" y="2413080"/>
            <a:ext cx="7947720" cy="1392480"/>
            <a:chOff x="300600" y="2413080"/>
            <a:chExt cx="7947720" cy="1392480"/>
          </a:xfrm>
        </p:grpSpPr>
        <p:sp>
          <p:nvSpPr>
            <p:cNvPr id="502" name=""/>
            <p:cNvSpPr/>
            <p:nvPr/>
          </p:nvSpPr>
          <p:spPr>
            <a:xfrm>
              <a:off x="300600" y="2724120"/>
              <a:ext cx="62884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349"/>
                </a:spcBef>
                <a:spcAft>
                  <a:spcPts val="1349"/>
                </a:spcAft>
                <a:buClr>
                  <a:srgbClr val="00ae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279f"/>
                  </a:solidFill>
                  <a:latin typeface="Arial"/>
                </a:rPr>
                <a:t>Semi-interquartile Range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648480" y="2413080"/>
              <a:ext cx="1599840" cy="1392480"/>
              <a:chOff x="6648480" y="2413080"/>
              <a:chExt cx="1599840" cy="1392480"/>
            </a:xfrm>
          </p:grpSpPr>
          <p:sp>
            <p:nvSpPr>
              <p:cNvPr id="504" name=""/>
              <p:cNvSpPr/>
              <p:nvPr/>
            </p:nvSpPr>
            <p:spPr>
              <a:xfrm>
                <a:off x="7146360" y="32292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48480" y="2413080"/>
                <a:ext cx="1599840" cy="69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279f"/>
                    </a:solidFill>
                    <a:latin typeface="Arial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279f"/>
                    </a:solidFill>
                    <a:latin typeface="Arial"/>
                  </a:rPr>
                  <a:t>3</a:t>
                </a:r>
                <a:r>
                  <a:rPr b="0" lang="en-US" sz="3200" spc="-1" strike="noStrike" baseline="-25000">
                    <a:solidFill>
                      <a:srgbClr val="00279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279f"/>
                    </a:solidFill>
                    <a:latin typeface="Arial"/>
                  </a:rPr>
                  <a:t>– </a:t>
                </a:r>
                <a:r>
                  <a:rPr b="0" i="1" lang="en-US" sz="3600" spc="-1" strike="noStrike">
                    <a:solidFill>
                      <a:srgbClr val="00279f"/>
                    </a:solidFill>
                    <a:latin typeface="Arial"/>
                  </a:rPr>
                  <a:t>Q</a:t>
                </a:r>
                <a:r>
                  <a:rPr b="1" lang="en-US" sz="3200" spc="-1" strike="noStrike" baseline="-25000">
                    <a:solidFill>
                      <a:srgbClr val="00279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6711840" y="3111480"/>
              <a:ext cx="133344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00600" y="3632040"/>
            <a:ext cx="5464800" cy="1267200"/>
            <a:chOff x="300600" y="3632040"/>
            <a:chExt cx="5464800" cy="1267200"/>
          </a:xfrm>
        </p:grpSpPr>
        <p:sp>
          <p:nvSpPr>
            <p:cNvPr id="508" name=""/>
            <p:cNvSpPr/>
            <p:nvPr/>
          </p:nvSpPr>
          <p:spPr>
            <a:xfrm>
              <a:off x="300600" y="3828960"/>
              <a:ext cx="3314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buClr>
                  <a:srgbClr val="00ae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279f"/>
                  </a:solidFill>
                  <a:latin typeface="Arial"/>
                </a:rPr>
                <a:t>Midquartile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153320" y="3632040"/>
              <a:ext cx="1612080" cy="1267200"/>
              <a:chOff x="4153320" y="3632040"/>
              <a:chExt cx="1612080" cy="126720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4153320" y="3632040"/>
                <a:ext cx="1612080" cy="1267200"/>
                <a:chOff x="4153320" y="3632040"/>
                <a:chExt cx="1612080" cy="12672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651200" y="4322880"/>
                  <a:ext cx="4071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279f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53320" y="3632040"/>
                  <a:ext cx="1612080" cy="69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spcAft>
                      <a:spcPts val="11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00279f"/>
                      </a:solidFill>
                      <a:latin typeface="Arial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279f"/>
                      </a:solidFill>
                      <a:latin typeface="Arial"/>
                    </a:rPr>
                    <a:t>3</a:t>
                  </a:r>
                  <a:r>
                    <a:rPr b="0" lang="en-US" sz="3200" spc="-1" strike="noStrike" baseline="-25000">
                      <a:solidFill>
                        <a:srgbClr val="00279f"/>
                      </a:solidFill>
                      <a:latin typeface="Arial"/>
                    </a:rPr>
                    <a:t> </a:t>
                  </a:r>
                  <a:r>
                    <a:rPr b="0" lang="en-US" sz="3600" spc="-1" strike="noStrike">
                      <a:solidFill>
                        <a:srgbClr val="00279f"/>
                      </a:solidFill>
                      <a:latin typeface="Arial"/>
                    </a:rPr>
                    <a:t>+ </a:t>
                  </a:r>
                  <a:r>
                    <a:rPr b="0" i="1" lang="en-US" sz="3600" spc="-1" strike="noStrike">
                      <a:solidFill>
                        <a:srgbClr val="00279f"/>
                      </a:solidFill>
                      <a:latin typeface="Arial"/>
                    </a:rPr>
                    <a:t>Q</a:t>
                  </a:r>
                  <a:r>
                    <a:rPr b="1" lang="en-US" sz="3200" spc="-1" strike="noStrike" baseline="-25000">
                      <a:solidFill>
                        <a:srgbClr val="00279f"/>
                      </a:solidFill>
                      <a:latin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4216320" y="4292640"/>
                <a:ext cx="1467000" cy="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507960" y="216000"/>
            <a:ext cx="8107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ome Other 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13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or a set of data, 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5-number summa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onsists of the minimum value; the first quartile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; the median (or second quartile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); the third quartile,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; and the maximum valu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323640" y="171360"/>
            <a:ext cx="851508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5-Number Summary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7920" indent="-547920">
              <a:lnSpc>
                <a:spcPct val="100000"/>
              </a:lnSpc>
              <a:spcBef>
                <a:spcPts val="13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oxpl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ox-and-whisker-diagram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) is a graph of a data set that consists of a line extending from the minimum value to the maximum value, and a box with lines drawn at the first quartile,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; the median; and the third quartile, </a:t>
            </a: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600" spc="-1" strike="noStrike" baseline="-25000">
                <a:solidFill>
                  <a:srgbClr val="00279f"/>
                </a:solidFill>
                <a:latin typeface="Arial"/>
              </a:rPr>
              <a:t>3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323640" y="171360"/>
            <a:ext cx="851508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xplo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77400" y="164880"/>
            <a:ext cx="716292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xplot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825480" y="2152800"/>
            <a:ext cx="7493040" cy="25524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941760" y="5232240"/>
            <a:ext cx="477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plot of Movie Budget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xplots - Normal Distribu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77800" y="2597040"/>
            <a:ext cx="7988400" cy="1663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49440" y="5232240"/>
            <a:ext cx="7600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Distribu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s from a Simple Random Sample of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84280" y="164880"/>
            <a:ext cx="797544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Boxplots - Skewed Distribu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1520" y="2711520"/>
            <a:ext cx="7860960" cy="1434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58640" y="5232240"/>
            <a:ext cx="8439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Distribu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ies (in thousands of dollars) of NCAA Football C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4840" y="3618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040" y="263520"/>
            <a:ext cx="82933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720" y="2038320"/>
            <a:ext cx="82152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haracteristics of center. Measures of center, including mean and median, as tools for analyzing data. Not only determine the value of each measure of center, but also interpret those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Outliers and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Modified Boxplo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83960"/>
            <a:ext cx="8515080" cy="82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utlier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5800" y="2228400"/>
            <a:ext cx="8578800" cy="14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utlier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a value that lies very far away from the vast majority of the other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alues in a data se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04920" y="165240"/>
            <a:ext cx="851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mportant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7680" y="2095560"/>
            <a:ext cx="8553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7280" y="1692360"/>
            <a:ext cx="8343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 outlier can have a dramatic effect on the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 outlier can have a dramatic effect on the standard dev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 outlier can have a dramatic effect on the scale of the histogram so that the true nature of the distribution is totally obscu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04920" y="165240"/>
            <a:ext cx="851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utliers for Modified Box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7680" y="2095560"/>
            <a:ext cx="8553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6520" y="1273320"/>
            <a:ext cx="8343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purposes of constructing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modified boxplots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, we can consider outliers to be data values meeting specific cri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6520" y="3165480"/>
            <a:ext cx="8343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 modified boxplots, a data value is an outlier if it is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11360" y="4257720"/>
            <a:ext cx="6210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bove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by an amount greater than 1.5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Q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11360" y="5502240"/>
            <a:ext cx="6210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elow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1" lang="en-US" sz="32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by an amount greater than 1.5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Q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7960" y="5070600"/>
            <a:ext cx="5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2960" y="164880"/>
            <a:ext cx="716292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ified Boxplot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2040" y="1319040"/>
            <a:ext cx="78105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oxplots described earlier are call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keletal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(or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gula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) boxplo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me statistical packages provide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odified boxplots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which represent outliers as special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37920" y="177480"/>
            <a:ext cx="783252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ified Boxplot Construc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4880" y="2454120"/>
            <a:ext cx="79106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 special symbol (such as an asterisk) is used to identify out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20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solid horizontal line extends only as far as the minimum data value that is not an outlier and the maximum data value that is not an outl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4880" y="1209600"/>
            <a:ext cx="79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 modified boxplot is constructed with these specif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77400" y="177480"/>
            <a:ext cx="716292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odified Boxplots - Exampl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711360" y="1143000"/>
            <a:ext cx="7823160" cy="37591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781200" y="5248440"/>
            <a:ext cx="79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lse rates of females listed in Data Set 1 in Appendix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04800" y="254160"/>
            <a:ext cx="7934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1800" y="9270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 this section we have discus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1800" y="14652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1800" y="20034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Scores and unusua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1800" y="30798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Quar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1800" y="25416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ercen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1800" y="3618000"/>
            <a:ext cx="81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onverting a percentile to corresponding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ata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1800" y="458316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Other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1800" y="61117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ffects of out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1800" y="512136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5-number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1800" y="56167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oxplots and modified box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04800" y="254160"/>
            <a:ext cx="7934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utting It All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8120" y="927000"/>
            <a:ext cx="84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lways consider certain key 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1800" y="14652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ontext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1800" y="199080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ource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1800" y="304164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sures of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1800" y="251604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ampling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1800" y="3567240"/>
            <a:ext cx="81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easures of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1800" y="461952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Out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1800" y="61117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ractical I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1800" y="51451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hanging pattern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1800" y="5627520"/>
            <a:ext cx="742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1800" y="4094280"/>
            <a:ext cx="74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01320" y="2327040"/>
            <a:ext cx="723420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Basics Concepts of Measures of Cen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254160"/>
            <a:ext cx="1592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95680" y="478944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95800" y="4111560"/>
            <a:ext cx="38192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8280" y="5464080"/>
            <a:ext cx="1590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5T09:06:01Z</dcterms:created>
  <dc:creator>Marty Triola</dc:creator>
  <dc:description/>
  <cp:keywords/>
  <dc:language>en-US</dc:language>
  <cp:lastModifiedBy>ustavch</cp:lastModifiedBy>
  <cp:lastPrinted>2000-05-17T01:18:40Z</cp:lastPrinted>
  <dcterms:modified xsi:type="dcterms:W3CDTF">2009-04-16T20:45:16Z</dcterms:modified>
  <cp:revision>430</cp:revision>
  <dc:subject>Statistics for Describing, Exploring, and Comparing Data</dc:subject>
  <dc:title>Chapter 3</dc:title>
</cp:coreProperties>
</file>